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F2A201D-3FE9-4D9E-B43E-3E18D40EB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18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3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4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25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9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37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Updated to September - 95-10-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399520" y="6118200"/>
            <a:ext cx="1042920" cy="786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UP96J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9427AEE-C199-4295-95D6-EC3565D1FE7C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9A8B6261-B29E-4F69-BDCC-1C3E640BA648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pproximately 150 000 recor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d more than 20 000 us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 the end of  January 1996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tat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41520" y="2411280"/>
            <a:ext cx="8481960" cy="363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NEWS  (en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30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FTE-Nachrichten  (de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6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DT-Nouvelles  (fr)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6bf69"/>
                </a:solidFill>
                <a:latin typeface="Arial"/>
                <a:ea typeface="Arial"/>
              </a:rPr>
              <a:t>215</a:t>
            </a:r>
            <a:br>
              <a:rPr sz="18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EOI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8080"/>
                </a:solidFill>
                <a:latin typeface="Arial"/>
                <a:ea typeface="Arial"/>
              </a:rPr>
              <a:t>Dai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 057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ACRONYM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5 659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MDOCUMEN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 02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GRAMME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62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ROJE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26 90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UBLICATION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69 403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PARTNER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7 570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CONTAC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00ff00"/>
                </a:solidFill>
                <a:latin typeface="Arial"/>
                <a:ea typeface="Arial"/>
              </a:rPr>
              <a:t>Fortnight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4 845</a:t>
            </a:r>
            <a:br>
              <a:rPr sz="2000"/>
            </a:b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RTD-RESULTS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Monthly</a:t>
            </a:r>
            <a:r>
              <a:rPr b="1" i="1" lang="en-US" sz="2000" spc="-1" strike="noStrike">
                <a:solidFill>
                  <a:srgbClr val="fc0128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13 20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720"/>
              </a:spcBef>
              <a:tabLst>
                <a:tab algn="l" pos="3809880"/>
                <a:tab algn="dec" pos="7238880"/>
              </a:tabLst>
            </a:pP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                                            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* Total 31 January ‘96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i="1" lang="en-US" sz="2000" spc="-1" strike="noStrike">
                <a:solidFill>
                  <a:srgbClr val="ff0000"/>
                </a:solidFill>
                <a:latin typeface="Arial"/>
                <a:ea typeface="Arial"/>
              </a:rPr>
              <a:t>148 71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979560" y="1763640"/>
            <a:ext cx="8166240" cy="51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90000"/>
              </a:lnSpc>
              <a:spcBef>
                <a:spcPts val="720"/>
              </a:spcBef>
              <a:tabLst>
                <a:tab algn="ctr" pos="4381560"/>
                <a:tab algn="ctr" pos="6858000"/>
              </a:tabLst>
            </a:pP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Database Name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Update 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	</a:t>
            </a:r>
            <a:r>
              <a:rPr b="1" i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ecord Count 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abases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cord Count Growth (1994-95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03360" y="2057400"/>
            <a:ext cx="7628040" cy="43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Registered Use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784080" y="1967040"/>
            <a:ext cx="8167680" cy="43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Users by customer group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307800" y="1739880"/>
            <a:ext cx="7870680" cy="49039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 txBox="1"/>
          <p:nvPr/>
        </p:nvSpPr>
        <p:spPr>
          <a:xfrm>
            <a:off x="3160800" y="3159000"/>
            <a:ext cx="83520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S m a l 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019840" y="3159000"/>
            <a:ext cx="87156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Mediu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6146640" y="3159000"/>
            <a:ext cx="598320" cy="2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Larg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s Statistics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Connect Hours by Country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1006560" y="1973160"/>
            <a:ext cx="7721640" cy="435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 (FTP)</a:t>
            </a:r>
            <a:br>
              <a:rPr sz="3600"/>
            </a:br>
            <a:r>
              <a:rPr b="1" lang="en-US" sz="36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Number of doc’s downloaded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033560" y="2100240"/>
            <a:ext cx="7172280" cy="42861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 txBox="1"/>
          <p:nvPr/>
        </p:nvSpPr>
        <p:spPr>
          <a:xfrm>
            <a:off x="6180120" y="2317680"/>
            <a:ext cx="1587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7 913 in January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1536840" y="4765680"/>
            <a:ext cx="7556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tart of</a:t>
            </a:r>
            <a:br>
              <a:rPr sz="1400"/>
            </a:br>
            <a:r>
              <a:rPr b="1" lang="en-US" sz="1400" spc="-1" strike="noStrike">
                <a:solidFill>
                  <a:srgbClr val="000000"/>
                </a:solidFill>
                <a:latin typeface="Impact"/>
                <a:ea typeface="Impact"/>
              </a:rPr>
              <a:t>Servi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