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311E1B5-36F2-4B64-8A23-2E5295D24E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 - S1 - V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1 - S2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2 - S2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3 - S2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4 - S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5 - S2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6 - S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8 - S3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9 - S33 - V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7 - S3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0 - S3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 - S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1 - S3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2 - S3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3 - S38 - V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5 - S40 - V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26 - S41 - V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3  - S11 - *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5 - S13 - V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6 - S1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7 - S1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8 - S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9 - S1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0000"/>
              </a:lnSpc>
              <a:spcBef>
                <a:spcPts val="961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10 - S2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90600" y="76320"/>
            <a:ext cx="1371600" cy="12193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514440" y="114480"/>
            <a:ext cx="1231920" cy="9810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 txBox="1"/>
          <p:nvPr/>
        </p:nvSpPr>
        <p:spPr>
          <a:xfrm>
            <a:off x="385920" y="928800"/>
            <a:ext cx="14367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314280" y="1374840"/>
            <a:ext cx="8386920" cy="301680"/>
            <a:chOff x="314280" y="1374840"/>
            <a:chExt cx="8386920" cy="301680"/>
          </a:xfrm>
        </p:grpSpPr>
        <p:grpSp>
          <p:nvGrpSpPr>
            <p:cNvPr id="4" name=""/>
            <p:cNvGrpSpPr/>
            <p:nvPr/>
          </p:nvGrpSpPr>
          <p:grpSpPr>
            <a:xfrm>
              <a:off x="8504280" y="1374840"/>
              <a:ext cx="196920" cy="299880"/>
              <a:chOff x="8504280" y="1374840"/>
              <a:chExt cx="196920" cy="299880"/>
            </a:xfrm>
          </p:grpSpPr>
          <p:sp>
            <p:nvSpPr>
              <p:cNvPr id="5" name=""/>
              <p:cNvSpPr/>
              <p:nvPr/>
            </p:nvSpPr>
            <p:spPr>
              <a:xfrm>
                <a:off x="8651880" y="1374840"/>
                <a:ext cx="493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8504280" y="1374840"/>
                <a:ext cx="954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" name=""/>
            <p:cNvGrpSpPr/>
            <p:nvPr/>
          </p:nvGrpSpPr>
          <p:grpSpPr>
            <a:xfrm>
              <a:off x="8010360" y="1374840"/>
              <a:ext cx="417960" cy="299880"/>
              <a:chOff x="8010360" y="1374840"/>
              <a:chExt cx="417960" cy="299880"/>
            </a:xfrm>
          </p:grpSpPr>
          <p:sp>
            <p:nvSpPr>
              <p:cNvPr id="8" name=""/>
              <p:cNvSpPr/>
              <p:nvPr/>
            </p:nvSpPr>
            <p:spPr>
              <a:xfrm>
                <a:off x="8282160" y="1374840"/>
                <a:ext cx="1461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010360" y="1374840"/>
                <a:ext cx="201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" name=""/>
            <p:cNvGrpSpPr/>
            <p:nvPr/>
          </p:nvGrpSpPr>
          <p:grpSpPr>
            <a:xfrm>
              <a:off x="7329600" y="1374840"/>
              <a:ext cx="611280" cy="299880"/>
              <a:chOff x="7329600" y="1374840"/>
              <a:chExt cx="611280" cy="299880"/>
            </a:xfrm>
          </p:grpSpPr>
          <p:sp>
            <p:nvSpPr>
              <p:cNvPr id="11" name=""/>
              <p:cNvSpPr/>
              <p:nvPr/>
            </p:nvSpPr>
            <p:spPr>
              <a:xfrm>
                <a:off x="7697880" y="1374840"/>
                <a:ext cx="2430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7329600" y="1374840"/>
                <a:ext cx="29844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" name=""/>
            <p:cNvGrpSpPr/>
            <p:nvPr/>
          </p:nvGrpSpPr>
          <p:grpSpPr>
            <a:xfrm>
              <a:off x="5367240" y="1374840"/>
              <a:ext cx="1892520" cy="301680"/>
              <a:chOff x="5367240" y="1374840"/>
              <a:chExt cx="1892520" cy="301680"/>
            </a:xfrm>
          </p:grpSpPr>
          <p:sp>
            <p:nvSpPr>
              <p:cNvPr id="14" name=""/>
              <p:cNvSpPr/>
              <p:nvPr/>
            </p:nvSpPr>
            <p:spPr>
              <a:xfrm>
                <a:off x="6912000" y="1374840"/>
                <a:ext cx="34776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6448320" y="1374840"/>
                <a:ext cx="3985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5932440" y="1374840"/>
                <a:ext cx="450720" cy="3016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5367240" y="1374840"/>
                <a:ext cx="49860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" name=""/>
            <p:cNvGrpSpPr/>
            <p:nvPr/>
          </p:nvGrpSpPr>
          <p:grpSpPr>
            <a:xfrm>
              <a:off x="314280" y="1374840"/>
              <a:ext cx="4989600" cy="299880"/>
              <a:chOff x="314280" y="1374840"/>
              <a:chExt cx="4989600" cy="299880"/>
            </a:xfrm>
          </p:grpSpPr>
          <p:sp>
            <p:nvSpPr>
              <p:cNvPr id="19" name=""/>
              <p:cNvSpPr/>
              <p:nvPr/>
            </p:nvSpPr>
            <p:spPr>
              <a:xfrm>
                <a:off x="4757760" y="1374840"/>
                <a:ext cx="54612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14280" y="1374840"/>
                <a:ext cx="4375080" cy="299880"/>
              </a:xfrm>
              <a:prstGeom prst="rect">
                <a:avLst/>
              </a:prstGeom>
              <a:solidFill>
                <a:srgbClr val="fafd00"/>
              </a:solidFill>
              <a:ln w="0">
                <a:noFill/>
              </a:ln>
            </p:spPr>
            <p:txBody>
              <a:bodyPr lIns="90000" rIns="90000" tIns="45000" bIns="45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1" name=""/>
          <p:cNvSpPr txBox="1"/>
          <p:nvPr/>
        </p:nvSpPr>
        <p:spPr>
          <a:xfrm>
            <a:off x="374760" y="1347840"/>
            <a:ext cx="3919680" cy="36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"/>
          <p:cNvSpPr txBox="1"/>
          <p:nvPr/>
        </p:nvSpPr>
        <p:spPr>
          <a:xfrm>
            <a:off x="8156520" y="6118200"/>
            <a:ext cx="1285920" cy="73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PDS96C2.pp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fld id="{68EF6D4F-2F4A-4147-9AC3-6AB514DB3276}" type="datetime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lide </a:t>
            </a:r>
            <a:fld id="{0894D9DC-BD13-457A-93AE-53238392D5A9}" type="slidenum">
              <a:rPr b="0" lang="en-US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äsentatio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2706840" y="4754520"/>
            <a:ext cx="4361040" cy="138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8000" spc="-1" strike="noStrike">
                <a:solidFill>
                  <a:srgbClr val="000000"/>
                </a:solidFill>
                <a:latin typeface="Book Antiqua"/>
                <a:ea typeface="Book Antiqua"/>
              </a:rPr>
              <a:t>CORDIS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2565360" y="5821200"/>
            <a:ext cx="46432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000" spc="-1" strike="noStrike">
                <a:solidFill>
                  <a:srgbClr val="0000bf"/>
                </a:solidFill>
                <a:latin typeface="Arial"/>
                <a:ea typeface="Arial"/>
              </a:rPr>
              <a:t>Community R&amp;D Information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3300480" y="2022480"/>
            <a:ext cx="317196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nbankumfang nach Themen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RTD-Projects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372960" y="2305080"/>
            <a:ext cx="8531280" cy="438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330120" y="2133720"/>
            <a:ext cx="9112320" cy="136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 den  CORDIS-Datenbank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685880" y="3733920"/>
            <a:ext cx="6400800" cy="247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4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-Host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657360" y="2114640"/>
            <a:ext cx="8496360" cy="375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CHO = European Commission Host Organis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ben CORDIS noch 19 weitere Datenbanken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Öffentliches  Paßwor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gabe des Paßworts “ECHO” nach Verbindungsaufbau erlaubt lediglich Zugang zu RTD-News (EN)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Registrierung als CORDIS-Benutzer|in ermöglicht Zugang zu allen CORDIS-Datenbanke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81944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als CORDIS-Benutzer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905040" y="1981080"/>
            <a:ext cx="756288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 (kein “Papierkrieg”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bindung zu ECHO aufbauen (mit öffentlichem Paßwort “ECHO”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rache festle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on für CORDIS-Registrierung wäh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nweisungen befolgen!</a:t>
            </a:r>
            <a:br>
              <a:rPr sz="2400"/>
            </a:b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der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, Brief oder e-mai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n den CORDIS-Kundendienst senden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790560" y="1809720"/>
            <a:ext cx="819144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X.25 - X.28 (z. B. Datex-P, Transpac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8112  - 7 Datenbits, gerade Parität, 1 Stopbit 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UA +270  442125  - 8 Datenbits, keine Parität, 1 Stopbit  (8,N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ktwahl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öffentliches Telefonnetz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+352 420347  - (7,E,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Telnet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telnet echo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ideotex (BTX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ehe Videotex-Informationsseit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Zuga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923760" y="1886040"/>
            <a:ext cx="7562880" cy="451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 = Window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ess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t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c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tra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h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s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Zugang zum Host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raphische Benutzeroberfläche unter Window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fline-Formulierung der Abfrag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isierter Verbindungsauf- und -abba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nü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üheloser Informationszugri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CL (Common Command Languag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O-DIS-8777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normt und effizi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e neun CORDIS-Datenbanken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rmular- bzw. menügesteuerte Benutzeroberfläche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ungsweise: vierteljährig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185724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906480" y="1874880"/>
            <a:ext cx="7959600" cy="421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züge aus RTD-News  (und anderen Datenbanke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vierzehntägig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abstrac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drucktes Pendant zu RTD-Pub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novation &amp; Technology Transf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ueste Informationen über F&amp;E in der E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rscheint sechs mal pro Jah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osten der CORDIS-Benutzung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961920" y="1828800"/>
            <a:ext cx="7924680" cy="426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nline-Dienst   - 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nutzer zahlt lediglich die Telekommunikationsgebühr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D-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onnement :  </a:t>
            </a:r>
            <a:r>
              <a:rPr b="1" lang="en-US" sz="2400" spc="-1" strike="noStrike">
                <a:solidFill>
                  <a:srgbClr val="fcd801"/>
                </a:solidFill>
                <a:latin typeface="Times New Roman"/>
                <a:ea typeface="Times New Roman"/>
              </a:rPr>
              <a:t>250 Ecu für vier Ausgaben pro Jah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inzelbezug :   </a:t>
            </a: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100 Ec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ruckerzeugnis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ocu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-  </a:t>
            </a:r>
            <a:r>
              <a:rPr b="1" lang="en-US" sz="24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kostenlos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beim RTD Help Desk erhältlich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sblic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612720" y="1952640"/>
            <a:ext cx="854712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100000"/>
              </a:lnSpc>
              <a:spcBef>
                <a:spcPts val="1199"/>
              </a:spcBef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atch-CORDIS 2</a:t>
            </a:r>
            <a:br>
              <a:rPr sz="1800"/>
            </a:b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 algn="ctr">
              <a:lnSpc>
                <a:spcPct val="100000"/>
              </a:lnSpc>
              <a:spcBef>
                <a:spcPts val="1199"/>
              </a:spcBef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ptimierter Zugriff auf Host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online) und CD-ROM 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dieselbe Benutzerschnittstelle unter Windows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s Ziel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942840" y="2019240"/>
            <a:ext cx="7924680" cy="445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Benutzern</a:t>
            </a:r>
            <a:br>
              <a:rPr sz="3600"/>
            </a:br>
            <a:r>
              <a:rPr b="1" i="1" lang="en-US" sz="48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einen Informationsdienst von bester Qualität anzubieten. </a:t>
            </a:r>
            <a:br>
              <a:rPr sz="18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e Informationen sollen sein: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ollständi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f dem neusten Stand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buClr>
                <a:srgbClr val="fafd00"/>
              </a:buClr>
              <a:buFont typeface="Wingdings"/>
              <a:buChar char=""/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n Ansprüchen der Benutzer 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angepaß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1000080" y="19810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Informationen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1046160" y="3429000"/>
            <a:ext cx="7680240" cy="238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</a:pP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3400"/>
            </a:br>
            <a:br>
              <a:rPr sz="3400"/>
            </a:br>
            <a:r>
              <a:rPr b="1" lang="en-US" sz="3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RTD Help Desk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orld Wide Web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WWW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619200" y="2171520"/>
            <a:ext cx="8534520" cy="415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bruf von Informationen über CORDI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ttp://www.cordis.l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tstellung und Abruf von elektronischen Dokumenten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rbeitsprogramme, Ausschreibungen und andere Dokumente zum Vierten Rahmenprogram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essenbekundungen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Expressions of Interest - EOI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199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gistrierung von Interessenbekundungen zu bestimmten Teilen des Vierten Rahmenprogram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</a:t>
            </a:r>
            <a:br>
              <a:rPr sz="3600"/>
            </a:b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Kundendienst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1343160" y="22096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 über CORDIS sind beim mehrsprachigen Help Desk erhältlich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Kundendienst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P 2373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1023 Luxembourg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85800" indent="-228600">
              <a:lnSpc>
                <a:spcPct val="90000"/>
              </a:lnSpc>
              <a:spcBef>
                <a:spcPts val="720"/>
              </a:spcBef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l:  +352 3498 1240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3498 1248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rnet e-mail: </a:t>
            </a:r>
            <a:r>
              <a:rPr b="1" lang="en-US" sz="2400" spc="-1" strike="noStrike">
                <a:solidFill>
                  <a:srgbClr val="ffffff"/>
                </a:solidFill>
                <a:latin typeface="Courier New"/>
                <a:ea typeface="Courier New"/>
              </a:rPr>
              <a:t>helpdesk@cordis.lu</a:t>
            </a:r>
            <a:br>
              <a:rPr sz="18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57360" y="1886040"/>
            <a:ext cx="8115480" cy="421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eitere Auskünfte über gemeinschaftliche Forschung und forschungsbezogene Progamme: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TD Help Desk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uropäische Kommission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eferat “Verbreitung der wissenschaftlichen und technischen Kenntnisse” (DG XIII/D-2)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Jean-Monnet-Gebäude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Rue Alcide de Gasperi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-2920 Luxembour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ax: +352 4301 3208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600280" y="2000160"/>
            <a:ext cx="457200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71480" y="1905120"/>
            <a:ext cx="7696080" cy="4495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7" name=""/>
          <p:cNvGrpSpPr/>
          <p:nvPr/>
        </p:nvGrpSpPr>
        <p:grpSpPr>
          <a:xfrm>
            <a:off x="2603520" y="2098800"/>
            <a:ext cx="4643280" cy="4195440"/>
            <a:chOff x="2603520" y="2098800"/>
            <a:chExt cx="4643280" cy="4195440"/>
          </a:xfrm>
        </p:grpSpPr>
        <p:sp>
          <p:nvSpPr>
            <p:cNvPr id="158" name=""/>
            <p:cNvSpPr txBox="1"/>
            <p:nvPr/>
          </p:nvSpPr>
          <p:spPr>
            <a:xfrm>
              <a:off x="2679840" y="4830840"/>
              <a:ext cx="4361040" cy="1384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80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8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2603520" y="5897520"/>
              <a:ext cx="4643280" cy="396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2000" spc="-1" strike="noStrike">
                  <a:solidFill>
                    <a:srgbClr val="0000bf"/>
                  </a:solidFill>
                  <a:latin typeface="Arial"/>
                  <a:ea typeface="Arial"/>
                </a:rPr>
                <a:t>Community R&amp;D Information Servic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3338640" y="2098800"/>
              <a:ext cx="3171960" cy="2814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61" name=""/>
          <p:cNvSpPr txBox="1"/>
          <p:nvPr/>
        </p:nvSpPr>
        <p:spPr>
          <a:xfrm>
            <a:off x="1955880" y="2001960"/>
            <a:ext cx="5861160" cy="285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6000" spc="-1" strike="noStrike">
                <a:solidFill>
                  <a:srgbClr val="00e0e0"/>
                </a:solidFill>
                <a:latin typeface="Times New Roman"/>
                <a:ea typeface="Times New Roman"/>
              </a:rPr>
              <a:t>... So innovieren Sie rasch und erfolgreich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 txBox="1"/>
          <p:nvPr/>
        </p:nvSpPr>
        <p:spPr>
          <a:xfrm>
            <a:off x="1000080" y="2286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6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-Datenbanken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1463760" y="3865680"/>
            <a:ext cx="68454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150,000 Datensätz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über 20 000 Benutz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ctr">
              <a:lnSpc>
                <a:spcPct val="90000"/>
              </a:lnSpc>
              <a:spcBef>
                <a:spcPts val="720"/>
              </a:spcBef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(Stand: Januar 1996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 flipH="1">
            <a:off x="420048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20048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20048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229536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295360" y="29718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9077400" y="2971800"/>
            <a:ext cx="0" cy="83808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029280" y="2971800"/>
            <a:ext cx="30481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6334200" y="3733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6334200" y="21337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791400" y="2133720"/>
            <a:ext cx="0" cy="160020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0" y="487692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24160" y="487692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6334200" y="4876920"/>
            <a:ext cx="45720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1400" y="4267080"/>
            <a:ext cx="53316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91400" y="5486400"/>
            <a:ext cx="60948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6791400" y="4267080"/>
            <a:ext cx="0" cy="12193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79140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H="1">
            <a:off x="6257880" y="5943600"/>
            <a:ext cx="5335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95360" y="5638680"/>
            <a:ext cx="0" cy="30492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95360" y="5943600"/>
            <a:ext cx="2362320" cy="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624560" y="3497400"/>
            <a:ext cx="1728720" cy="596880"/>
          </a:xfrm>
          <a:prstGeom prst="rect">
            <a:avLst/>
          </a:prstGeom>
          <a:solidFill>
            <a:srgbClr val="cf0e3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CONT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91080" y="2670120"/>
            <a:ext cx="1728720" cy="596880"/>
          </a:xfrm>
          <a:prstGeom prst="rect">
            <a:avLst/>
          </a:prstGeom>
          <a:solidFill>
            <a:srgbClr val="dc0081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ACRONY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68760" y="1852560"/>
            <a:ext cx="1728720" cy="59688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NEW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33336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MDOCU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2462040" y="456264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GRAMM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91080" y="45561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ROJE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7296120" y="399420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RESUL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7296120" y="5148360"/>
            <a:ext cx="1728720" cy="596880"/>
          </a:xfrm>
          <a:prstGeom prst="rect">
            <a:avLst/>
          </a:prstGeom>
          <a:solidFill>
            <a:srgbClr val="fafd00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UBL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4591080" y="5632560"/>
            <a:ext cx="1728720" cy="596880"/>
          </a:xfrm>
          <a:prstGeom prst="rect">
            <a:avLst/>
          </a:prstGeom>
          <a:solidFill>
            <a:srgbClr val="c0fef9"/>
          </a:solidFill>
          <a:ln w="0">
            <a:noFill/>
          </a:ln>
          <a:effectLst>
            <a:outerShdw dist="0" dir="0" blurRad="0" rotWithShape="0">
              <a:srgbClr val="848484"/>
            </a:outerShdw>
          </a:effectLst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br>
              <a:rPr sz="1200"/>
            </a:b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TD-PARTN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800360" y="9540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05000" y="198108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TD New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Nachrichten über die gemeinschaftliche F&amp;E-Tätigkeit: Ausschreibungen, Veranstaltungen, vorbereitende Arbeiten usw.  (verfügbar in Englisch, Deutsch und Französisch)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f0e30"/>
                </a:solidFill>
                <a:latin typeface="Arial"/>
                <a:ea typeface="Arial"/>
              </a:rPr>
              <a:t>RTD Contacts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ntaktadressen für Auskünfte über gemeinschaftliche und nationale F&amp;E-Vorhaben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dc0081"/>
                </a:solidFill>
                <a:latin typeface="Arial"/>
                <a:ea typeface="Arial"/>
              </a:rPr>
              <a:t>RTD Acronyms</a:t>
            </a:r>
            <a:br>
              <a:rPr sz="18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Kompaktes Wörterbuch der Kunstwörter und Abkürzungen im Bereich der gemeinschaftlichen F&amp;E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1838160" y="5724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05000" y="1828800"/>
            <a:ext cx="71629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Comdocumen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Zusammenfassungen forschungsbezogener Dokumente, die die Kommission im Rahmen des Gesetzgebungsvorganges dem Rat oder dem Europäischen Parlament vorleg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gramme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Alle EU-geförderten Forschungsprogramme: Ziele, Abwicklung, Finanzierung, derzeitiger Status, zuständige Dienststellen und Bedienstete der Europäischen Kommission usw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rojec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rojektverträge und Studien: Titel, Ziele, derzeitiger Status, Veröffentlichungen, Einzelheiten über Auftragnehmer und Partn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DIS Datenbanken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181160" y="2038320"/>
            <a:ext cx="7448400" cy="4286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Publication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Bibliographische Angaben zu Veröffentlichungen, Berichten und wissenschaftlichen Artikeln, die aus den gemeinschaftlichen Forschungsarbeiten hervorgehe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fafd00"/>
                </a:solidFill>
                <a:latin typeface="Arial"/>
                <a:ea typeface="Arial"/>
              </a:rPr>
              <a:t>RTD Result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Ergebnisse und Prototypen aus gemeinschaftlicher und sonstiger F&amp;E-Tätigkeit, die auf kommerzielle Verwertung warten; ferner Informationen über Forschungsprojekte, die weiteren Entwicklungsaufwand erforder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ffffff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c0fef9"/>
                </a:solidFill>
                <a:latin typeface="Arial"/>
                <a:ea typeface="Arial"/>
              </a:rPr>
              <a:t>RTD Partners </a:t>
            </a:r>
            <a:br>
              <a:rPr sz="2400"/>
            </a:b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Arial"/>
              </a:rPr>
              <a:t>Partnerbörse für gemeinschaftliche F&amp;E-Projekte und für die kommerzielle Verwertung von F&amp;E-Ergebnisse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" name=""/>
          <p:cNvGrpSpPr/>
          <p:nvPr/>
        </p:nvGrpSpPr>
        <p:grpSpPr>
          <a:xfrm>
            <a:off x="3127320" y="2509920"/>
            <a:ext cx="2835360" cy="2752560"/>
            <a:chOff x="3127320" y="2509920"/>
            <a:chExt cx="2835360" cy="2752560"/>
          </a:xfrm>
        </p:grpSpPr>
        <p:sp>
          <p:nvSpPr>
            <p:cNvPr id="113" name=""/>
            <p:cNvSpPr/>
            <p:nvPr/>
          </p:nvSpPr>
          <p:spPr>
            <a:xfrm>
              <a:off x="3127320" y="2509920"/>
              <a:ext cx="2835360" cy="2752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4" name="" descr=""/>
            <p:cNvPicPr/>
            <p:nvPr/>
          </p:nvPicPr>
          <p:blipFill>
            <a:blip r:embed="rId1"/>
            <a:stretch/>
          </p:blipFill>
          <p:spPr>
            <a:xfrm>
              <a:off x="3138480" y="2527200"/>
              <a:ext cx="2814480" cy="2084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 txBox="1"/>
            <p:nvPr/>
          </p:nvSpPr>
          <p:spPr>
            <a:xfrm>
              <a:off x="3200400" y="4425840"/>
              <a:ext cx="2689200" cy="8308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0" rIns="0" tIns="0" bIns="0" anchor="t">
              <a:noAutofit/>
            </a:bodyPr>
            <a:p>
              <a:pPr>
                <a:lnSpc>
                  <a:spcPct val="100000"/>
                </a:lnSpc>
              </a:pPr>
              <a:r>
                <a:rPr b="1" lang="en-US" sz="4800" spc="-1" strike="noStrike">
                  <a:solidFill>
                    <a:srgbClr val="000000"/>
                  </a:solidFill>
                  <a:latin typeface="Book Antiqua"/>
                  <a:ea typeface="Book Antiqua"/>
                </a:rPr>
                <a:t>CORDIS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5500800" y="3173400"/>
            <a:ext cx="846000" cy="15098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2500200" y="3448080"/>
            <a:ext cx="952920" cy="837000"/>
          </a:xfrm>
          <a:custGeom>
            <a:avLst/>
            <a:gdLst/>
            <a:ahLst/>
            <a:rect l="0" t="0" r="r" b="b"/>
            <a:pathLst>
              <a:path w="2647" h="2325">
                <a:moveTo>
                  <a:pt x="1679" y="548"/>
                </a:moveTo>
                <a:lnTo>
                  <a:pt x="0" y="548"/>
                </a:lnTo>
                <a:lnTo>
                  <a:pt x="0" y="1781"/>
                </a:lnTo>
                <a:lnTo>
                  <a:pt x="1731" y="1781"/>
                </a:lnTo>
                <a:lnTo>
                  <a:pt x="1731" y="2325"/>
                </a:lnTo>
                <a:lnTo>
                  <a:pt x="2647" y="1188"/>
                </a:lnTo>
                <a:lnTo>
                  <a:pt x="1679" y="0"/>
                </a:lnTo>
                <a:lnTo>
                  <a:pt x="1679" y="548"/>
                </a:lnTo>
                <a:close/>
              </a:path>
            </a:pathLst>
          </a:custGeom>
          <a:solidFill>
            <a:srgbClr val="00ff00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14280" y="2114640"/>
            <a:ext cx="3457440" cy="375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III   INDUSTR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   LANDWIRT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VII  VERKEHR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  UMWEL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  WISSENSCHAF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II  IT&amp;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IV  FISCHERE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  REGIONALPOLITI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VII  ENERGI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  <a:ea typeface="Arial"/>
              </a:rPr>
              <a:t>- DGXXII AUSBILDUNG . . 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formationsfluß</a:t>
            </a: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5494320" y="1652760"/>
            <a:ext cx="3798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Benutzergemeinschaft F&amp;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26880" y="1636560"/>
            <a:ext cx="2843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c0128"/>
                </a:solidFill>
                <a:latin typeface="Times New Roman"/>
                <a:ea typeface="Times New Roman"/>
              </a:rPr>
              <a:t>Informationsquell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512640" y="5092560"/>
            <a:ext cx="1968480" cy="3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398520" y="5964120"/>
            <a:ext cx="4676760" cy="82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>
                <a:solidFill>
                  <a:srgbClr val="fafd00"/>
                </a:solidFill>
                <a:latin typeface="Times New Roman"/>
                <a:ea typeface="Times New Roman"/>
              </a:rPr>
              <a:t>Öffentliche Information über nationale Forschu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240600" y="2122560"/>
            <a:ext cx="313992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Universitäten und 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Forschungs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Privatunternehmen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(Vor allem KMUs)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ationale Verwaltungen</a:t>
            </a:r>
            <a:br>
              <a:rPr sz="1700"/>
            </a:b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Informationsbroker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Netzwerk der  Relay</a:t>
            </a:r>
            <a:br>
              <a:rPr sz="1700"/>
            </a:b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   Zent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Korrespondent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199"/>
              </a:spcAf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  <a:ea typeface="Arial"/>
              </a:rPr>
              <a:t>- CORDIS Multiplikatoren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b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1838160" y="76320"/>
            <a:ext cx="6915240" cy="120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lnSpc>
                <a:spcPct val="90000"/>
              </a:lnSpc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menspektrum der Datenbanken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Sachgebie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866880" y="189864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nd- und meereswirtschaftliche Ressourcen und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Erzeugnisse (L&amp;MR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owissenschaften  (B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nergie  (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reichsübergreifende F&amp;E-Maßnahmen  (Bü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ustrie und Technik  (I&amp;T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ßtechnik und Normen  (M&amp;N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aturwissenschaften  (N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chutz des Menschen und seiner Umwelt  (SM&amp;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0880" indent="-380880">
              <a:lnSpc>
                <a:spcPct val="90000"/>
              </a:lnSpc>
              <a:spcBef>
                <a:spcPts val="720"/>
              </a:spcBef>
              <a:buClr>
                <a:srgbClr val="fafd00"/>
              </a:buClr>
              <a:buFont typeface="Wingdings"/>
              <a:buChar char=""/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Gesellschafts- und Wirtschaftsfragen  (G&amp;W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